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6BB2-92D0-48DE-9706-CEDAC3BF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6F54-8F1F-4A54-B90E-7FAEB44A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2DD6-A8FE-44EA-8D81-CFB427F6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4908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340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476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4908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340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F6A0-1C1A-45CB-B81A-2AA7302C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0BCA-48F9-4387-887F-8986747B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068E-2AA9-4217-990B-3EFF4342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B473-42E6-4831-A28A-1BDD7839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BF8F-BC4D-44CA-8C47-06FDD0CD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098C-3BB6-47AB-95C4-A83178E6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F943-8227-4104-A3FB-A4012CEA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BB2E-C2B6-4CD5-946E-E6BE33CF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CEBE-5D9C-4101-9068-A5DA80D3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4BF2-C0A4-4308-869B-B21D1E19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A703-7DC2-42D2-9C3C-1F4153A4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A134-F7E1-40CD-A927-791ADB9F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E588-5402-4D2D-A984-64F18CEF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4908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9340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476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4908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9340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2430-1999-45F8-87B8-875CE2F4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DAB8-CB10-4B4C-8A09-5079A407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FE7F-EE66-43E1-B9F1-192C47B6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9950-E270-446B-B6DB-6AA24F4D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3F6E-C427-443D-AAAA-4D4F7959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806A-8CB1-4E02-992E-E20313C6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DA44-9DCF-4A2C-9C70-303E58C6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CEB-5F11-4395-A448-FAD36A45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A120-7474-4B16-933F-4298889B9822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560" y="2135160"/>
            <a:ext cx="518148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E7E6-52A3-4B44-A859-042ACF58BC6E}" type="slidenum">
              <a:rPr b="0" lang="pl-PL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2398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ts val="2398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ak.bn.org.pl/cgi-bin/makwww.exe?BM=19&amp;IM=01&amp;VI=1&amp;TX=Biologia" TargetMode="External"/><Relationship Id="rId3" Type="http://schemas.openxmlformats.org/officeDocument/2006/relationships/hyperlink" Target="http://mak.bn.org.pl/cgi-bin/makwww.exe?BM=19&amp;IM=01&amp;VI=1&amp;TX=Eksperymenty+medyczne+na+ludziach" TargetMode="External"/><Relationship Id="rId4" Type="http://schemas.openxmlformats.org/officeDocument/2006/relationships/hyperlink" Target="http://mak.bn.org.pl/cgi-bin/makwww.exe?BM=19&amp;IM=01&amp;VI=1&amp;TX=Etyka" TargetMode="External"/><Relationship Id="rId5" Type="http://schemas.openxmlformats.org/officeDocument/2006/relationships/hyperlink" Target="http://mak.bn.org.pl/cgi-bin/makwww.exe?BM=19&amp;IM=01&amp;VI=1&amp;TX=Etyka+lekarska" TargetMode="External"/><Relationship Id="rId6" Type="http://schemas.openxmlformats.org/officeDocument/2006/relationships/hyperlink" Target="http://mak.bn.org.pl/cgi-bin/makwww.exe?BM=19&amp;IM=01&amp;VI=1&amp;TX=Medycyna" TargetMode="External"/><Relationship Id="rId7" Type="http://schemas.openxmlformats.org/officeDocument/2006/relationships/hyperlink" Target="http://mak.bn.org.pl/cgi-bin/makwww.exe?BM=19&amp;IM=01&amp;VI=1&amp;TX=Piel%EAgniarki+i+piel%EAgniarze" TargetMode="External"/><Relationship Id="rId8" Type="http://schemas.openxmlformats.org/officeDocument/2006/relationships/hyperlink" Target="http://mak.bn.org.pl/cgi-bin/makwww.exe?BM=19&amp;IM=01&amp;VI=1&amp;TX=Atmosfera" TargetMode="External"/><Relationship Id="rId9" Type="http://schemas.openxmlformats.org/officeDocument/2006/relationships/hyperlink" Target="http://mak.bn.org.pl/cgi-bin/makwww.exe?BM=19&amp;IM=01&amp;VI=1&amp;TX=Dziura+ozonowa" TargetMode="External"/><Relationship Id="rId10" Type="http://schemas.openxmlformats.org/officeDocument/2006/relationships/hyperlink" Target="http://mak.bn.org.pl/cgi-bin/makwww.exe?BM=19&amp;IM=01&amp;VI=1&amp;TX=Gazy+cieplarniane" TargetMode="External"/><Relationship Id="rId11" Type="http://schemas.openxmlformats.org/officeDocument/2006/relationships/hyperlink" Target="http://mak.bn.org.pl/cgi-bin/makwww.exe?BM=19&amp;IM=01&amp;VI=1&amp;TX=Katastrofy+ekologiczne" TargetMode="External"/><Relationship Id="rId12" Type="http://schemas.openxmlformats.org/officeDocument/2006/relationships/hyperlink" Target="http://mak.bn.org.pl/cgi-bin/makwww.exe?BM=19&amp;IM=01&amp;VI=1&amp;TX=Powietrze" TargetMode="External"/><Relationship Id="rId13" Type="http://schemas.openxmlformats.org/officeDocument/2006/relationships/hyperlink" Target="http://mak.bn.org.pl/cgi-bin/makwww.exe?BM=19&amp;IM=01&amp;VI=1&amp;TX=Zmiany+klimatyczne" TargetMode="External"/><Relationship Id="rId14" Type="http://schemas.openxmlformats.org/officeDocument/2006/relationships/hyperlink" Target="http://mak.bn.org.pl/cgi-bin/makwww.exe?BM=19&amp;IM=01&amp;VI=1&amp;TX=Robotnicy" TargetMode="External"/><Relationship Id="rId15" Type="http://schemas.openxmlformats.org/officeDocument/2006/relationships/hyperlink" Target="http://mak.bn.org.pl/cgi-bin/makwww.exe?BM=19&amp;IM=01&amp;VI=1&amp;TX=%8Cwi%EAta" TargetMode="External"/><Relationship Id="rId16" Type="http://schemas.openxmlformats.org/officeDocument/2006/relationships/hyperlink" Target="http://mak.bn.org.pl/cgi-bin/makwww.exe?BM=19&amp;IM=01&amp;VI=1&amp;TX=Spo%B3ecze%F1stwo+informacyjne" TargetMode="External"/><Relationship Id="rId17" Type="http://schemas.openxmlformats.org/officeDocument/2006/relationships/hyperlink" Target="http://mak.bn.org.pl/cgi-bin/makwww.exe?BM=19&amp;IM=01&amp;VI=1&amp;TX=Spo%B3ecze%F1stwo+konsumpcyjne" TargetMode="External"/><Relationship Id="rId18" Type="http://schemas.openxmlformats.org/officeDocument/2006/relationships/hyperlink" Target="http://mak.bn.org.pl/cgi-bin/makwww.exe?BM=19&amp;IM=01&amp;VI=1&amp;TX=Spo%B3ecze%F1stwo+obywatelskie" TargetMode="External"/><Relationship Id="rId19" Type="http://schemas.openxmlformats.org/officeDocument/2006/relationships/hyperlink" Target="http://mak.bn.org.pl/cgi-bin/makwww.exe?BM=19&amp;IM=01&amp;VI=1&amp;TX=Spo%B3ecze%F1stwo+otwarte" TargetMode="External"/><Relationship Id="rId2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ak.bn.org.pl/cgi-bin/makwww.exe?BM=19&amp;IM=01&amp;VI=1&amp;TX=Bioetyka" TargetMode="External"/><Relationship Id="rId3" Type="http://schemas.openxmlformats.org/officeDocument/2006/relationships/hyperlink" Target="http://mak.bn.org.pl/cgi-bin/makwww.exe?BM=19&amp;IM=01&amp;VI=1&amp;TX=Dobra+Praktyka+Kliniczna" TargetMode="External"/><Relationship Id="rId4" Type="http://schemas.openxmlformats.org/officeDocument/2006/relationships/hyperlink" Target="http://mak.bn.org.pl/cgi-bin/makwww.exe?BM=19&amp;IM=01&amp;VI=1&amp;TX=Etyka+zawodowa" TargetMode="External"/><Relationship Id="rId5" Type="http://schemas.openxmlformats.org/officeDocument/2006/relationships/hyperlink" Target="http://mak.bn.org.pl/cgi-bin/makwww.exe?BM=19&amp;IM=01&amp;VI=1&amp;TX=Eutanazja" TargetMode="External"/><Relationship Id="rId6" Type="http://schemas.openxmlformats.org/officeDocument/2006/relationships/hyperlink" Target="http://mak.bn.org.pl/cgi-bin/makwww.exe?BM=19&amp;IM=01&amp;VI=1&amp;TX=Lekarze" TargetMode="External"/><Relationship Id="rId7" Type="http://schemas.openxmlformats.org/officeDocument/2006/relationships/hyperlink" Target="http://mak.bn.org.pl/cgi-bin/makwww.exe?BM=19&amp;IM=01&amp;VI=1&amp;TX=Prawa+pacjenta" TargetMode="External"/><Relationship Id="rId8" Type="http://schemas.openxmlformats.org/officeDocument/2006/relationships/hyperlink" Target="http://mak.bn.org.pl/cgi-bin/makwww.exe?BM=19&amp;IM=01&amp;VI=1&amp;TX=Akty+notarialne" TargetMode="External"/><Relationship Id="rId9" Type="http://schemas.openxmlformats.org/officeDocument/2006/relationships/hyperlink" Target="http://mak.bn.org.pl/cgi-bin/makwww.exe?BM=19&amp;IM=01&amp;VI=1&amp;TX=Dokumenty" TargetMode="External"/><Relationship Id="rId10" Type="http://schemas.openxmlformats.org/officeDocument/2006/relationships/hyperlink" Target="http://mak.bn.org.pl/cgi-bin/makwww.exe?BM=19&amp;IM=01&amp;VI=1&amp;TX=Organy+ochrony+prawnej" TargetMode="External"/><Relationship Id="rId11" Type="http://schemas.openxmlformats.org/officeDocument/2006/relationships/hyperlink" Target="http://mak.bn.org.pl/cgi-bin/makwww.exe?BM=19&amp;IM=01&amp;VI=1&amp;TX=Prawo" TargetMode="External"/><Relationship Id="rId12" Type="http://schemas.openxmlformats.org/officeDocument/2006/relationships/hyperlink" Target="http://mak.bn.org.pl/cgi-bin/makwww.exe?BM=19&amp;IM=01&amp;VI=1&amp;TX=Obro%F1ca+z+urz%EAdu" TargetMode="External"/><Relationship Id="rId13" Type="http://schemas.openxmlformats.org/officeDocument/2006/relationships/hyperlink" Target="http://mak.bn.org.pl/cgi-bin/makwww.exe?BM=19&amp;IM=01&amp;VI=1&amp;TX=Organy+ochrony+prawnej" TargetMode="External"/><Relationship Id="rId14" Type="http://schemas.openxmlformats.org/officeDocument/2006/relationships/hyperlink" Target="http://mak.bn.org.pl/cgi-bin/makwww.exe?BM=19&amp;IM=01&amp;VI=1&amp;TX=Prawnicy" TargetMode="External"/><Relationship Id="rId15" Type="http://schemas.openxmlformats.org/officeDocument/2006/relationships/hyperlink" Target="http://mak.bn.org.pl/cgi-bin/makwww.exe?BM=19&amp;IM=01&amp;VI=1&amp;TX=Prawo" TargetMode="External"/><Relationship Id="rId16" Type="http://schemas.openxmlformats.org/officeDocument/2006/relationships/hyperlink" Target="http://mak.bn.org.pl/cgi-bin/makwww.exe?BM=19&amp;IM=01&amp;VI=1&amp;TX=S%B9downictwo" TargetMode="External"/><Relationship Id="rId17" Type="http://schemas.openxmlformats.org/officeDocument/2006/relationships/hyperlink" Target="http://mak.bn.org.pl/cgi-bin/makwww.exe?BM=19&amp;IM=01&amp;VI=1&amp;TX=Telewizja" TargetMode="External"/><Relationship Id="rId18" Type="http://schemas.openxmlformats.org/officeDocument/2006/relationships/hyperlink" Target="http://mak.bn.org.pl/cgi-bin/makwww.exe?BM=19&amp;IM=01&amp;VI=1&amp;TX=Radiow%EAz%B3y" TargetMode="External"/><Relationship Id="rId1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ak.bn.org.pl/cgi-bin/makwww.exe?BM=19&amp;IM=01&amp;VI=1&amp;TX=Szkolnictwo" TargetMode="External"/><Relationship Id="rId3" Type="http://schemas.openxmlformats.org/officeDocument/2006/relationships/hyperlink" Target="http://mak.bn.org.pl/cgi-bin/makwww.exe?BM=19&amp;IM=01&amp;VI=1&amp;TX=Transport+pasa%BFerski" TargetMode="External"/><Relationship Id="rId4" Type="http://schemas.openxmlformats.org/officeDocument/2006/relationships/hyperlink" Target="http://mak.bn.org.pl/cgi-bin/makwww.exe?BM=19&amp;IM=01&amp;VI=1&amp;TX=Geografia" TargetMode="External"/><Relationship Id="rId5" Type="http://schemas.openxmlformats.org/officeDocument/2006/relationships/hyperlink" Target="http://mak.bn.org.pl/cgi-bin/makwww.exe?BM=19&amp;IM=01&amp;VI=1&amp;TX=Geografowie" TargetMode="External"/><Relationship Id="rId6" Type="http://schemas.openxmlformats.org/officeDocument/2006/relationships/hyperlink" Target="http://mak.bn.org.pl/cgi-bin/makwww.exe?BM=19&amp;IM=01&amp;VI=1&amp;TX=Nauczyciele" TargetMode="External"/><Relationship Id="rId7" Type="http://schemas.openxmlformats.org/officeDocument/2006/relationships/hyperlink" Target="http://mak.bn.org.pl/cgi-bin/makwww.exe?BM=19&amp;IM=01&amp;VI=1&amp;TX=Socjologia" TargetMode="External"/><Relationship Id="rId8" Type="http://schemas.openxmlformats.org/officeDocument/2006/relationships/hyperlink" Target="http://mak.bn.org.pl/cgi-bin/makwww.exe?BM=19&amp;IM=01&amp;VI=1&amp;TX=Komunikacja+niewerbalna" TargetMode="External"/><Relationship Id="rId9" Type="http://schemas.openxmlformats.org/officeDocument/2006/relationships/hyperlink" Target="http://mak.bn.org.pl/cgi-bin/makwww.exe?BM=19&amp;IM=01&amp;VI=1&amp;TX=Psychofizjologia" TargetMode="External"/><Relationship Id="rId10" Type="http://schemas.openxmlformats.org/officeDocument/2006/relationships/hyperlink" Target="http://mak.bn.org.pl/cgi-bin/makwww.exe?BM=19&amp;IM=01&amp;VI=1&amp;TX=Psychologia" TargetMode="External"/><Relationship Id="rId11" Type="http://schemas.openxmlformats.org/officeDocument/2006/relationships/hyperlink" Target="http://mak.bn.org.pl/cgi-bin/makwww.exe?BM=19&amp;IM=01&amp;VI=1&amp;TX=Instytucje+nonprofit" TargetMode="External"/><Relationship Id="rId12" Type="http://schemas.openxmlformats.org/officeDocument/2006/relationships/hyperlink" Target="http://mak.bn.org.pl/cgi-bin/makwww.exe?BM=19&amp;IM=01&amp;VI=1&amp;TX=Instytucje+nonprofit" TargetMode="External"/><Relationship Id="rId13" Type="http://schemas.openxmlformats.org/officeDocument/2006/relationships/hyperlink" Target="http://mak.bn.org.pl/cgi-bin/makwww.exe?BM=19&amp;IM=01&amp;VI=1&amp;TX=Podatek+dochodowy+od+os%F3b+fizycznych" TargetMode="External"/><Relationship Id="rId14" Type="http://schemas.openxmlformats.org/officeDocument/2006/relationships/hyperlink" Target="http://mak.bn.org.pl/cgi-bin/makwww.exe?BM=19&amp;IM=01&amp;VI=1&amp;TX=Wsparcie+spo%B3eczne" TargetMode="External"/><Relationship Id="rId1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ak.bn.org.pl/cgi-bin/makwww.exe?BM=19&amp;IM=01&amp;VI=1&amp;TX=Organizmy+transgeniczne" TargetMode="External"/><Relationship Id="rId3" Type="http://schemas.openxmlformats.org/officeDocument/2006/relationships/hyperlink" Target="http://mak.bn.org.pl/cgi-bin/makwww.exe?BM=19&amp;IM=01&amp;VI=1&amp;TX=%AFywno%9C%E6" TargetMode="External"/><Relationship Id="rId4" Type="http://schemas.openxmlformats.org/officeDocument/2006/relationships/hyperlink" Target="http://mak.bn.org.pl/cgi-bin/makwww.exe?BM=19&amp;IM=01&amp;VI=1&amp;TX=Dym+tytoniowy" TargetMode="External"/><Relationship Id="rId5" Type="http://schemas.openxmlformats.org/officeDocument/2006/relationships/hyperlink" Target="http://mak.bn.org.pl/cgi-bin/makwww.exe?BM=19&amp;IM=01&amp;VI=1&amp;TX=Fajki" TargetMode="External"/><Relationship Id="rId6" Type="http://schemas.openxmlformats.org/officeDocument/2006/relationships/hyperlink" Target="http://mak.bn.org.pl/cgi-bin/makwww.exe?BM=19&amp;IM=01&amp;VI=1&amp;TX=Na%B3%F3g" TargetMode="External"/><Relationship Id="rId7" Type="http://schemas.openxmlformats.org/officeDocument/2006/relationships/hyperlink" Target="http://mak.bn.org.pl/cgi-bin/makwww.exe?BM=19&amp;IM=01&amp;VI=1&amp;TX=Palenie+tytoniu+bierne" TargetMode="External"/><Relationship Id="rId8" Type="http://schemas.openxmlformats.org/officeDocument/2006/relationships/hyperlink" Target="http://mak.bn.org.pl/cgi-bin/makwww.exe?BM=19&amp;IM=01&amp;VI=1&amp;TX=Tyto%F1" TargetMode="External"/><Relationship Id="rId9" Type="http://schemas.openxmlformats.org/officeDocument/2006/relationships/hyperlink" Target="http://mak.bn.org.pl/cgi-bin/makwww.exe?BM=19&amp;IM=01&amp;VI=1&amp;TX=Koncentraty+spo%BFywcze" TargetMode="External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ak.bn.org.pl/cgi-bin/makwww.exe?BM=19&amp;IM=01&amp;VI=1&amp;TX=Etyka+zawodowa" TargetMode="External"/><Relationship Id="rId3" Type="http://schemas.openxmlformats.org/officeDocument/2006/relationships/hyperlink" Target="http://mak.bn.org.pl/cgi-bin/makwww.exe?BM=19&amp;IM=01&amp;VI=1&amp;TX=Gospodarka" TargetMode="External"/><Relationship Id="rId4" Type="http://schemas.openxmlformats.org/officeDocument/2006/relationships/hyperlink" Target="http://mak.bn.org.pl/cgi-bin/makwww.exe?BM=19&amp;IM=01&amp;VI=1&amp;TX=Nieuczciwa+konkurencja" TargetMode="External"/><Relationship Id="rId5" Type="http://schemas.openxmlformats.org/officeDocument/2006/relationships/hyperlink" Target="http://mak.bn.org.pl/cgi-bin/makwww.exe?BM=19&amp;IM=01&amp;VI=1&amp;TX=Przedsi%EAbiorstwo" TargetMode="External"/><Relationship Id="rId6" Type="http://schemas.openxmlformats.org/officeDocument/2006/relationships/hyperlink" Target="http://mak.bn.org.pl/cgi-bin/makwww.exe?BM=19&amp;IM=01&amp;VI=1&amp;TX=Spo%B3eczna+odpowiedzialno%9C%E6+biznesu" TargetMode="External"/><Relationship Id="rId7" Type="http://schemas.openxmlformats.org/officeDocument/2006/relationships/hyperlink" Target="http://mak.bn.org.pl/cgi-bin/makwww.exe?BM=19&amp;IM=01&amp;VI=1&amp;TX=Etyka" TargetMode="External"/><Relationship Id="rId8" Type="http://schemas.openxmlformats.org/officeDocument/2006/relationships/hyperlink" Target="http://mak.bn.org.pl/cgi-bin/makwww.exe?BM=19&amp;IM=01&amp;VI=1&amp;TX=Filozofia+ekologiczna" TargetMode="External"/><Relationship Id="rId9" Type="http://schemas.openxmlformats.org/officeDocument/2006/relationships/hyperlink" Target="http://mak.bn.org.pl/cgi-bin/makwww.exe?BM=19&amp;IM=01&amp;VI=1&amp;TX=Architektura+obronna+chi%F1ska" TargetMode="External"/><Relationship Id="rId10" Type="http://schemas.openxmlformats.org/officeDocument/2006/relationships/hyperlink" Target="http://mak.bn.org.pl/cgi-bin/makwww.exe?BM=19&amp;IM=01&amp;VI=1&amp;TX=Architektura+sakralna+chi%F1ska" TargetMode="External"/><Relationship Id="rId11" Type="http://schemas.openxmlformats.org/officeDocument/2006/relationships/hyperlink" Target="http://mak.bn.org.pl/cgi-bin/makwww.exe?BM=19&amp;IM=01&amp;VI=1&amp;TX=Sztuka+chi%F1ska" TargetMode="External"/><Relationship Id="rId12" Type="http://schemas.openxmlformats.org/officeDocument/2006/relationships/hyperlink" Target="http://mak.bn.org.pl/cgi-bin/makwww.exe?BM=19&amp;IM=01&amp;VI=1&amp;TX=Sztuka+ogrodowa+chi%F1ska" TargetMode="External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1844640"/>
            <a:ext cx="85917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99ccff"/>
                </a:solidFill>
                <a:latin typeface="Tahoma"/>
              </a:rPr>
              <a:t>Kierunki rozwoju </a:t>
            </a:r>
            <a:br>
              <a:rPr sz="3400"/>
            </a:br>
            <a:r>
              <a:rPr b="1" lang="pl-PL" sz="3400" spc="-1" strike="noStrike">
                <a:solidFill>
                  <a:srgbClr val="99ccff"/>
                </a:solidFill>
                <a:latin typeface="Tahoma"/>
              </a:rPr>
              <a:t>języków haseł przedmiotowych: </a:t>
            </a:r>
            <a:br>
              <a:rPr sz="3400"/>
            </a:br>
            <a:r>
              <a:rPr b="1" lang="pl-PL" sz="3400" spc="-1" strike="noStrike">
                <a:solidFill>
                  <a:srgbClr val="99ccff"/>
                </a:solidFill>
                <a:latin typeface="Tahoma"/>
              </a:rPr>
              <a:t>jak pogodzić standardy z użytecznością?</a:t>
            </a:r>
            <a:br>
              <a:rPr sz="3400"/>
            </a:br>
            <a:endParaRPr b="0" lang="en-US" sz="34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63640" y="3213000"/>
            <a:ext cx="6570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Kacper Trzas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Instytut Informacji Naukowej i Studiów Bibliologiczny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Uniwersytetu Warszawski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ts val="2398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696080" y="5867280"/>
            <a:ext cx="1017720" cy="514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164360" y="4737240"/>
            <a:ext cx="1800360" cy="1679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189000"/>
            <a:ext cx="3888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"(…)informacji nie da się dotkną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zprzestrzenia się ona jedna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 przynosi wymierne korzyści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e możemy się bez niej obejść(...)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ul Levi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99ccff"/>
                </a:solidFill>
                <a:latin typeface="Tahoma"/>
              </a:rPr>
              <a:t>Braki w budowie odsyłaczy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Bioetyka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U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Biologia - etyka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U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Medycyna - etyka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S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2"/>
              </a:rPr>
              <a:t>Biologia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- filozofia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3"/>
              </a:rPr>
              <a:t>Eksperymenty medyczne na ludziach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S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4"/>
              </a:rPr>
              <a:t>Etyka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W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5"/>
              </a:rPr>
              <a:t>Etyka lekarska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S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6"/>
              </a:rPr>
              <a:t>Medycyna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- filozofia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7"/>
              </a:rPr>
              <a:t>Pielęgniarki i pielęgniarze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- etyka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Efekt cieplarniany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U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Efekt szklarniowy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8"/>
              </a:rPr>
              <a:t>Atmosfera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9"/>
              </a:rPr>
              <a:t>Dziura ozonowa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10"/>
              </a:rPr>
              <a:t>Gazy cieplarniane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11"/>
              </a:rPr>
              <a:t>Katastrofy ekologiczne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12"/>
              </a:rPr>
              <a:t>Powietrze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- degradacja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13"/>
              </a:rPr>
              <a:t>Zmiany klimatycz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Pierwszy Maja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U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1 Maja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14"/>
              </a:rPr>
              <a:t>Robotnicy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S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15"/>
              </a:rPr>
              <a:t>Świę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Społeczeństwo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W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16"/>
              </a:rPr>
              <a:t>Społeczeństwo informacyjne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W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17"/>
              </a:rPr>
              <a:t>Społeczeństwo konsumpcyjne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W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18"/>
              </a:rPr>
              <a:t>Społeczeństwo obywatelskie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W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19"/>
              </a:rPr>
              <a:t>Społeczeństwo otwarte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99ccff"/>
                </a:solidFill>
                <a:latin typeface="Tahoma"/>
              </a:rPr>
              <a:t>Brak konsekwencji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Etyka lekarska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U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Deontologia lekarska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U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Lekarze - etyka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S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2"/>
              </a:rPr>
              <a:t>Bioetyka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3"/>
              </a:rPr>
              <a:t>Dobra Praktyka Kliniczna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S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4"/>
              </a:rPr>
              <a:t>Etyka zawodowa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5"/>
              </a:rPr>
              <a:t>Eutanazja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6"/>
              </a:rPr>
              <a:t>Lekarze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7"/>
              </a:rPr>
              <a:t>Prawa pacjenta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Notariat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U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Notariusze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8"/>
              </a:rPr>
              <a:t>Akty notarialne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9"/>
              </a:rPr>
              <a:t>Dokumenty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- prawo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S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10"/>
              </a:rPr>
              <a:t>Organy ochrony prawnej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11"/>
              </a:rPr>
              <a:t>Prawo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emat/ok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Adwokaci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U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Adwokatura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U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Obrońcy (prawo)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12"/>
              </a:rPr>
              <a:t>Obrońca z urzędu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S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13"/>
              </a:rPr>
              <a:t>Organy ochrony prawnej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S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14"/>
              </a:rPr>
              <a:t>Prawnicy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15"/>
              </a:rPr>
              <a:t>Prawo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16"/>
              </a:rPr>
              <a:t>Sądownictwo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Telewizory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S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17"/>
              </a:rPr>
              <a:t>Telewizja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- urządzenia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emat/okr.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Radiofonia - urządzenia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W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18"/>
              </a:rPr>
              <a:t>Radiowęzły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99ccff"/>
                </a:solidFill>
                <a:latin typeface="Tahoma"/>
              </a:rPr>
              <a:t>Mnożenie tematów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08000" y="1268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Dojazdy do szkoły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2"/>
              </a:rPr>
              <a:t>Szkolnictwo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3"/>
              </a:rPr>
              <a:t>Transport pasażerski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Nauczyciele geografii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4"/>
              </a:rPr>
              <a:t>Geografia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- nauczanie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5"/>
              </a:rPr>
              <a:t>Geografowie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S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6"/>
              </a:rPr>
              <a:t>Nauczyciele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Socjologia ciała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U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Ciało ludzkie - socjologia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S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7"/>
              </a:rPr>
              <a:t>Socjologia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emat/okr.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Psychologia ciała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U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Ciało ludzkie - psychologia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8"/>
              </a:rPr>
              <a:t>Komunikacja niewerbalna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9"/>
              </a:rPr>
              <a:t>Psychofizjologia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S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10"/>
              </a:rPr>
              <a:t>Psychologia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Jeden procent podatku dochodowego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U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Jeden procent podatku na rzecz organizacji pożytku publicznego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U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Zmniejszenie podatku dochodowego o 1 %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U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1 % podatku dla OPP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U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1 % podatku dochodowego na rzecz organizacji pożytku publicznego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11"/>
              </a:rPr>
              <a:t>Instytucje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12"/>
              </a:rPr>
              <a:t>nonprofit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13"/>
              </a:rPr>
              <a:t>Podatek dochodowy od osób fizycznych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14"/>
              </a:rPr>
              <a:t>Wsparcie społeczne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99ccff"/>
                </a:solidFill>
                <a:latin typeface="Tahoma"/>
              </a:rPr>
              <a:t>Podsumowanie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4932360" y="3284640"/>
            <a:ext cx="3672000" cy="914400"/>
          </a:xfrm>
          <a:prstGeom prst="ellipse">
            <a:avLst/>
          </a:prstGeom>
          <a:solidFill>
            <a:srgbClr val="586f9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akość opracowania rzeczowe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2781360"/>
            <a:ext cx="3168720" cy="914400"/>
          </a:xfrm>
          <a:prstGeom prst="ellipse">
            <a:avLst/>
          </a:prstGeom>
          <a:solidFill>
            <a:srgbClr val="586f9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soby informacyj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50920" y="1628640"/>
            <a:ext cx="3168720" cy="914400"/>
          </a:xfrm>
          <a:prstGeom prst="ellipse">
            <a:avLst/>
          </a:prstGeom>
          <a:solidFill>
            <a:srgbClr val="586f9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apitał ludz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4508640"/>
            <a:ext cx="3024360" cy="914400"/>
          </a:xfrm>
          <a:prstGeom prst="ellipse">
            <a:avLst/>
          </a:prstGeom>
          <a:solidFill>
            <a:srgbClr val="586f9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plecze technologicz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08360" y="3284640"/>
            <a:ext cx="1224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00720" y="2492280"/>
            <a:ext cx="50292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708360" y="3789360"/>
            <a:ext cx="115092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08000" y="22096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ts val="2398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Kacper Trzask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ts val="2398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Instytut Informacji Naukowej i Studiów Bibliologicznych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ts val="2398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Uniwersytetu Warszawski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ts val="2398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kacper147@onet.e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99ccff"/>
                </a:solidFill>
                <a:latin typeface="Tahoma"/>
              </a:rPr>
              <a:t>Proces produkcji informacji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5120" y="1447920"/>
            <a:ext cx="6933240" cy="4647240"/>
            <a:chOff x="1905120" y="1447920"/>
            <a:chExt cx="6933240" cy="4647240"/>
          </a:xfrm>
        </p:grpSpPr>
        <p:cxnSp>
          <p:nvCxnSpPr>
            <p:cNvPr id="89" name="_s121862"/>
            <p:cNvCxnSpPr>
              <a:stCxn id="90" idx="1"/>
              <a:endCxn id="91" idx="2"/>
            </p:cNvCxnSpPr>
            <p:nvPr/>
          </p:nvCxnSpPr>
          <p:spPr>
            <a:xfrm rot="10800000">
              <a:off x="5370840" y="1993680"/>
              <a:ext cx="495720" cy="3828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2" name="_s121863"/>
            <p:cNvCxnSpPr>
              <a:stCxn id="93" idx="3"/>
              <a:endCxn id="91" idx="2"/>
            </p:cNvCxnSpPr>
            <p:nvPr/>
          </p:nvCxnSpPr>
          <p:spPr>
            <a:xfrm flipV="1">
              <a:off x="4876200" y="1994040"/>
              <a:ext cx="495720" cy="3828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4" name="_s121864"/>
            <p:cNvCxnSpPr>
              <a:stCxn id="95" idx="1"/>
              <a:endCxn id="91" idx="2"/>
            </p:cNvCxnSpPr>
            <p:nvPr/>
          </p:nvCxnSpPr>
          <p:spPr>
            <a:xfrm rot="10800000">
              <a:off x="5370840" y="1993680"/>
              <a:ext cx="495720" cy="3008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6" name="_s121865"/>
            <p:cNvCxnSpPr>
              <a:stCxn id="97" idx="3"/>
              <a:endCxn id="91" idx="2"/>
            </p:cNvCxnSpPr>
            <p:nvPr/>
          </p:nvCxnSpPr>
          <p:spPr>
            <a:xfrm flipV="1">
              <a:off x="4876200" y="1994040"/>
              <a:ext cx="495720" cy="3008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" name="_s121866"/>
            <p:cNvCxnSpPr>
              <a:stCxn id="99" idx="1"/>
              <a:endCxn id="91" idx="2"/>
            </p:cNvCxnSpPr>
            <p:nvPr/>
          </p:nvCxnSpPr>
          <p:spPr>
            <a:xfrm rot="10800000">
              <a:off x="5370840" y="1993680"/>
              <a:ext cx="495720" cy="2189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0" name="_s121867"/>
            <p:cNvCxnSpPr>
              <a:stCxn id="101" idx="3"/>
              <a:endCxn id="91" idx="2"/>
            </p:cNvCxnSpPr>
            <p:nvPr/>
          </p:nvCxnSpPr>
          <p:spPr>
            <a:xfrm flipV="1">
              <a:off x="4876200" y="1993680"/>
              <a:ext cx="495720" cy="2189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2" name="_s121868"/>
            <p:cNvCxnSpPr>
              <a:stCxn id="103" idx="1"/>
              <a:endCxn id="91" idx="2"/>
            </p:cNvCxnSpPr>
            <p:nvPr/>
          </p:nvCxnSpPr>
          <p:spPr>
            <a:xfrm rot="10800000">
              <a:off x="5370840" y="1993680"/>
              <a:ext cx="495720" cy="1367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4" name="_s121869"/>
            <p:cNvCxnSpPr>
              <a:stCxn id="105" idx="3"/>
              <a:endCxn id="91" idx="2"/>
            </p:cNvCxnSpPr>
            <p:nvPr/>
          </p:nvCxnSpPr>
          <p:spPr>
            <a:xfrm flipV="1">
              <a:off x="4876200" y="1993680"/>
              <a:ext cx="495720" cy="1367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6" name="_s121870"/>
            <p:cNvCxnSpPr>
              <a:stCxn id="107" idx="1"/>
              <a:endCxn id="91" idx="2"/>
            </p:cNvCxnSpPr>
            <p:nvPr/>
          </p:nvCxnSpPr>
          <p:spPr>
            <a:xfrm rot="10800000">
              <a:off x="5370840" y="1993680"/>
              <a:ext cx="495720" cy="547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8" name="_s121871"/>
            <p:cNvCxnSpPr>
              <a:stCxn id="109" idx="3"/>
              <a:endCxn id="91" idx="2"/>
            </p:cNvCxnSpPr>
            <p:nvPr/>
          </p:nvCxnSpPr>
          <p:spPr>
            <a:xfrm flipV="1">
              <a:off x="4876200" y="1994040"/>
              <a:ext cx="495720" cy="547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1" name="_s121872"/>
            <p:cNvSpPr/>
            <p:nvPr/>
          </p:nvSpPr>
          <p:spPr>
            <a:xfrm>
              <a:off x="3885840" y="1447920"/>
              <a:ext cx="2971440" cy="546480"/>
            </a:xfrm>
            <a:prstGeom prst="roundRect">
              <a:avLst>
                <a:gd name="adj" fmla="val 16667"/>
              </a:avLst>
            </a:pr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ffffff"/>
                  </a:solidFill>
                  <a:latin typeface="Arial"/>
                </a:rPr>
                <a:t>Proces produkcji informacj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121873"/>
            <p:cNvSpPr/>
            <p:nvPr/>
          </p:nvSpPr>
          <p:spPr>
            <a:xfrm>
              <a:off x="1905120" y="2268000"/>
              <a:ext cx="2971440" cy="546480"/>
            </a:xfrm>
            <a:prstGeom prst="roundRect">
              <a:avLst>
                <a:gd name="adj" fmla="val 16667"/>
              </a:avLst>
            </a:pr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ffffff"/>
                  </a:solidFill>
                  <a:latin typeface="Arial"/>
                </a:rPr>
                <a:t>Generowani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21874"/>
            <p:cNvSpPr/>
            <p:nvPr/>
          </p:nvSpPr>
          <p:spPr>
            <a:xfrm>
              <a:off x="5866920" y="2268000"/>
              <a:ext cx="2971440" cy="546480"/>
            </a:xfrm>
            <a:prstGeom prst="roundRect">
              <a:avLst>
                <a:gd name="adj" fmla="val 16667"/>
              </a:avLst>
            </a:pr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ffffff"/>
                  </a:solidFill>
                  <a:latin typeface="Arial"/>
                </a:rPr>
                <a:t>Gromadzeni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121875"/>
            <p:cNvSpPr/>
            <p:nvPr/>
          </p:nvSpPr>
          <p:spPr>
            <a:xfrm>
              <a:off x="1905120" y="3088080"/>
              <a:ext cx="2971440" cy="546480"/>
            </a:xfrm>
            <a:prstGeom prst="roundRect">
              <a:avLst>
                <a:gd name="adj" fmla="val 16667"/>
              </a:avLst>
            </a:pr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ffffff"/>
                  </a:solidFill>
                  <a:latin typeface="Arial"/>
                </a:rPr>
                <a:t>Archiwizowani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121876"/>
            <p:cNvSpPr/>
            <p:nvPr/>
          </p:nvSpPr>
          <p:spPr>
            <a:xfrm>
              <a:off x="5866920" y="3088080"/>
              <a:ext cx="2971440" cy="546480"/>
            </a:xfrm>
            <a:prstGeom prst="roundRect">
              <a:avLst>
                <a:gd name="adj" fmla="val 16667"/>
              </a:avLst>
            </a:pr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ffffff"/>
                  </a:solidFill>
                  <a:latin typeface="Arial"/>
                </a:rPr>
                <a:t>Zapamiętywani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121877"/>
            <p:cNvSpPr/>
            <p:nvPr/>
          </p:nvSpPr>
          <p:spPr>
            <a:xfrm>
              <a:off x="1905120" y="3908520"/>
              <a:ext cx="2971440" cy="546480"/>
            </a:xfrm>
            <a:prstGeom prst="roundRect">
              <a:avLst>
                <a:gd name="adj" fmla="val 16667"/>
              </a:avLst>
            </a:pr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ffffff"/>
                  </a:solidFill>
                  <a:latin typeface="Arial"/>
                </a:rPr>
                <a:t>Przekazywani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121878"/>
            <p:cNvSpPr/>
            <p:nvPr/>
          </p:nvSpPr>
          <p:spPr>
            <a:xfrm>
              <a:off x="5866920" y="3908520"/>
              <a:ext cx="2971440" cy="546480"/>
            </a:xfrm>
            <a:prstGeom prst="roundRect">
              <a:avLst>
                <a:gd name="adj" fmla="val 16667"/>
              </a:avLst>
            </a:pr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ffffff"/>
                  </a:solidFill>
                  <a:latin typeface="Arial"/>
                </a:rPr>
                <a:t>Przetwarzani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121879"/>
            <p:cNvSpPr/>
            <p:nvPr/>
          </p:nvSpPr>
          <p:spPr>
            <a:xfrm>
              <a:off x="1905120" y="4728600"/>
              <a:ext cx="2971440" cy="546480"/>
            </a:xfrm>
            <a:prstGeom prst="roundRect">
              <a:avLst>
                <a:gd name="adj" fmla="val 16667"/>
              </a:avLst>
            </a:pr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ffffff"/>
                  </a:solidFill>
                  <a:latin typeface="Arial"/>
                </a:rPr>
                <a:t>Interpretacj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121880"/>
            <p:cNvSpPr/>
            <p:nvPr/>
          </p:nvSpPr>
          <p:spPr>
            <a:xfrm>
              <a:off x="5866920" y="4728600"/>
              <a:ext cx="2971440" cy="546480"/>
            </a:xfrm>
            <a:prstGeom prst="roundRect">
              <a:avLst>
                <a:gd name="adj" fmla="val 16667"/>
              </a:avLst>
            </a:pr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ffffff"/>
                  </a:solidFill>
                  <a:latin typeface="Arial"/>
                </a:rPr>
                <a:t>Udostępniani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121881"/>
            <p:cNvSpPr/>
            <p:nvPr/>
          </p:nvSpPr>
          <p:spPr>
            <a:xfrm>
              <a:off x="1905120" y="5548680"/>
              <a:ext cx="2971440" cy="546480"/>
            </a:xfrm>
            <a:prstGeom prst="roundRect">
              <a:avLst>
                <a:gd name="adj" fmla="val 16667"/>
              </a:avLst>
            </a:pr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ffffff"/>
                  </a:solidFill>
                  <a:latin typeface="Arial"/>
                </a:rPr>
                <a:t>Upowszechniani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_s121882"/>
            <p:cNvSpPr/>
            <p:nvPr/>
          </p:nvSpPr>
          <p:spPr>
            <a:xfrm>
              <a:off x="5866920" y="5548680"/>
              <a:ext cx="2971440" cy="546480"/>
            </a:xfrm>
            <a:prstGeom prst="roundRect">
              <a:avLst>
                <a:gd name="adj" fmla="val 16667"/>
              </a:avLst>
            </a:pr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ffffff"/>
                  </a:solidFill>
                  <a:latin typeface="Arial"/>
                </a:rPr>
                <a:t>Wykorzystani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09480" y="2382120"/>
              <a:ext cx="577800" cy="363960"/>
            </a:xfrm>
            <a:custGeom>
              <a:avLst/>
              <a:gdLst>
                <a:gd name="textAreaLeft" fmla="*/ 90000 w 577800"/>
                <a:gd name="textAreaRight" fmla="*/ 505800 w 577800"/>
                <a:gd name="textAreaTop" fmla="*/ 91080 h 363960"/>
                <a:gd name="textAreaBottom" fmla="*/ 273240 h 36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9389400">
              <a:off x="5037480" y="2818080"/>
              <a:ext cx="573840" cy="362520"/>
            </a:xfrm>
            <a:custGeom>
              <a:avLst/>
              <a:gdLst>
                <a:gd name="textAreaLeft" fmla="*/ 89640 w 573840"/>
                <a:gd name="textAreaRight" fmla="*/ 502200 w 573840"/>
                <a:gd name="textAreaTop" fmla="*/ 90720 h 362520"/>
                <a:gd name="textAreaBottom" fmla="*/ 272160 h 3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9389400">
              <a:off x="5037120" y="4415040"/>
              <a:ext cx="570600" cy="362520"/>
            </a:xfrm>
            <a:custGeom>
              <a:avLst/>
              <a:gdLst>
                <a:gd name="textAreaLeft" fmla="*/ 88920 w 570600"/>
                <a:gd name="textAreaRight" fmla="*/ 499320 w 570600"/>
                <a:gd name="textAreaTop" fmla="*/ 90720 h 362520"/>
                <a:gd name="textAreaBottom" fmla="*/ 272160 h 3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9389400">
              <a:off x="5037120" y="5213880"/>
              <a:ext cx="570600" cy="362520"/>
            </a:xfrm>
            <a:custGeom>
              <a:avLst/>
              <a:gdLst>
                <a:gd name="textAreaLeft" fmla="*/ 88920 w 570600"/>
                <a:gd name="textAreaRight" fmla="*/ 499320 w 570600"/>
                <a:gd name="textAreaTop" fmla="*/ 90720 h 362520"/>
                <a:gd name="textAreaBottom" fmla="*/ 272160 h 3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09480" y="3181320"/>
              <a:ext cx="577800" cy="366120"/>
            </a:xfrm>
            <a:custGeom>
              <a:avLst/>
              <a:gdLst>
                <a:gd name="textAreaLeft" fmla="*/ 90000 w 577800"/>
                <a:gd name="textAreaRight" fmla="*/ 505800 w 577800"/>
                <a:gd name="textAreaTop" fmla="*/ 91440 h 366120"/>
                <a:gd name="textAreaBottom" fmla="*/ 274680 h 36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09480" y="3980880"/>
              <a:ext cx="577800" cy="366120"/>
            </a:xfrm>
            <a:custGeom>
              <a:avLst/>
              <a:gdLst>
                <a:gd name="textAreaLeft" fmla="*/ 90000 w 577800"/>
                <a:gd name="textAreaRight" fmla="*/ 505800 w 577800"/>
                <a:gd name="textAreaTop" fmla="*/ 91440 h 366120"/>
                <a:gd name="textAreaBottom" fmla="*/ 274680 h 36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09480" y="4778280"/>
              <a:ext cx="577800" cy="366120"/>
            </a:xfrm>
            <a:custGeom>
              <a:avLst/>
              <a:gdLst>
                <a:gd name="textAreaLeft" fmla="*/ 90000 w 577800"/>
                <a:gd name="textAreaRight" fmla="*/ 505800 w 577800"/>
                <a:gd name="textAreaTop" fmla="*/ 91440 h 366120"/>
                <a:gd name="textAreaBottom" fmla="*/ 274680 h 36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09480" y="5651280"/>
              <a:ext cx="577800" cy="366120"/>
            </a:xfrm>
            <a:custGeom>
              <a:avLst/>
              <a:gdLst>
                <a:gd name="textAreaLeft" fmla="*/ 90000 w 577800"/>
                <a:gd name="textAreaRight" fmla="*/ 505800 w 577800"/>
                <a:gd name="textAreaTop" fmla="*/ 91440 h 366120"/>
                <a:gd name="textAreaBottom" fmla="*/ 274680 h 36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8163000">
              <a:off x="5074920" y="3572640"/>
              <a:ext cx="577800" cy="367920"/>
            </a:xfrm>
            <a:custGeom>
              <a:avLst/>
              <a:gdLst>
                <a:gd name="textAreaLeft" fmla="*/ 90000 w 577800"/>
                <a:gd name="textAreaRight" fmla="*/ 505800 w 577800"/>
                <a:gd name="textAreaTop" fmla="*/ 91800 h 367920"/>
                <a:gd name="textAreaBottom" fmla="*/ 276120 h 36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99ccff"/>
                </a:solidFill>
                <a:latin typeface="Tahoma"/>
              </a:rPr>
              <a:t>Charakterystyka wyszukiwawcza</a:t>
            </a:r>
            <a:endParaRPr b="0" lang="en-US" sz="34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Zasady sporządzania opisu rzeczowego dokumentu można podzielić na trzy grupy, spośród których każda odnosi się do innej części wyznaczników pracy indeksato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Pierwszą grupę ograniczają wiedza, umiejętności i predyspozycje zawodowe osób zajmujących się indeksowaniem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Do drugiej grupy czynników wyznaczających charakterystykę wyszukiwawczą dokumentu grupujemy właściwości języka informacyjno-wyszukiwawczego, który wykorzystywany jest do opracowania rzeczowego. Gramatyka i pragmatyka językowa determinują charakter opracowani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Kolejną, bodaj najtrudniejszą do zdefiniowania, grupę stanowią cechy personalne użytkowników systemów informacyjno-wyszukiwawczych. Ich umiejętności, kompetencje językowe i doświadczenia powinny wpływać na zasady budowania charakterystyk wyszukiwawczych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1905120" y="228600"/>
            <a:ext cx="6932880" cy="6629040"/>
            <a:chOff x="1905120" y="228600"/>
            <a:chExt cx="6932880" cy="6629040"/>
          </a:xfrm>
        </p:grpSpPr>
        <p:cxnSp>
          <p:nvCxnSpPr>
            <p:cNvPr id="122" name="_s123932"/>
            <p:cNvCxnSpPr>
              <a:stCxn id="123" idx="1"/>
              <a:endCxn id="124" idx="2"/>
            </p:cNvCxnSpPr>
            <p:nvPr/>
          </p:nvCxnSpPr>
          <p:spPr>
            <a:xfrm rot="10800000">
              <a:off x="3984120" y="804240"/>
              <a:ext cx="693720" cy="5765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5" name="_s123930"/>
            <p:cNvCxnSpPr>
              <a:stCxn id="126" idx="1"/>
              <a:endCxn id="124" idx="2"/>
            </p:cNvCxnSpPr>
            <p:nvPr/>
          </p:nvCxnSpPr>
          <p:spPr>
            <a:xfrm rot="10800000">
              <a:off x="3984120" y="804240"/>
              <a:ext cx="693720" cy="4900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7" name="_s123928"/>
            <p:cNvCxnSpPr>
              <a:stCxn id="128" idx="1"/>
              <a:endCxn id="124" idx="2"/>
            </p:cNvCxnSpPr>
            <p:nvPr/>
          </p:nvCxnSpPr>
          <p:spPr>
            <a:xfrm rot="10800000">
              <a:off x="3984120" y="804240"/>
              <a:ext cx="693720" cy="403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9" name="_s123924"/>
            <p:cNvCxnSpPr>
              <a:stCxn id="130" idx="1"/>
              <a:endCxn id="124" idx="2"/>
            </p:cNvCxnSpPr>
            <p:nvPr/>
          </p:nvCxnSpPr>
          <p:spPr>
            <a:xfrm rot="10800000">
              <a:off x="3984120" y="804240"/>
              <a:ext cx="693720" cy="3171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1" name="_s123918"/>
            <p:cNvCxnSpPr>
              <a:stCxn id="132" idx="1"/>
              <a:endCxn id="124" idx="2"/>
            </p:cNvCxnSpPr>
            <p:nvPr/>
          </p:nvCxnSpPr>
          <p:spPr>
            <a:xfrm rot="10800000">
              <a:off x="3984120" y="804240"/>
              <a:ext cx="693720" cy="2306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3" name="_s123917"/>
            <p:cNvCxnSpPr>
              <a:stCxn id="134" idx="1"/>
              <a:endCxn id="124" idx="2"/>
            </p:cNvCxnSpPr>
            <p:nvPr/>
          </p:nvCxnSpPr>
          <p:spPr>
            <a:xfrm rot="10800000">
              <a:off x="3984120" y="804240"/>
              <a:ext cx="693720" cy="1443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5" name="_s123916"/>
            <p:cNvCxnSpPr>
              <a:stCxn id="136" idx="1"/>
              <a:endCxn id="124" idx="2"/>
            </p:cNvCxnSpPr>
            <p:nvPr/>
          </p:nvCxnSpPr>
          <p:spPr>
            <a:xfrm rot="10800000">
              <a:off x="3984120" y="804240"/>
              <a:ext cx="693720" cy="5770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4" name="_s123912"/>
            <p:cNvSpPr/>
            <p:nvPr/>
          </p:nvSpPr>
          <p:spPr>
            <a:xfrm>
              <a:off x="1905120" y="228600"/>
              <a:ext cx="4159800" cy="576360"/>
            </a:xfrm>
            <a:prstGeom prst="roundRect">
              <a:avLst>
                <a:gd name="adj" fmla="val 16667"/>
              </a:avLst>
            </a:pr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Opis przedmiotowy 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123913"/>
            <p:cNvSpPr/>
            <p:nvPr/>
          </p:nvSpPr>
          <p:spPr>
            <a:xfrm>
              <a:off x="4678200" y="1092960"/>
              <a:ext cx="4159800" cy="576360"/>
            </a:xfrm>
            <a:prstGeom prst="roundRect">
              <a:avLst>
                <a:gd name="adj" fmla="val 16667"/>
              </a:avLst>
            </a:pr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w pełni odzwierciedlający treść dokumentu</a:t>
              </a:r>
              <a:r>
                <a:rPr b="0" lang="pl-PL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123914"/>
            <p:cNvSpPr/>
            <p:nvPr/>
          </p:nvSpPr>
          <p:spPr>
            <a:xfrm>
              <a:off x="4678200" y="1957680"/>
              <a:ext cx="4159800" cy="576360"/>
            </a:xfrm>
            <a:prstGeom prst="roundRect">
              <a:avLst>
                <a:gd name="adj" fmla="val 16667"/>
              </a:avLst>
            </a:pr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sny i klarowny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123915"/>
            <p:cNvSpPr/>
            <p:nvPr/>
          </p:nvSpPr>
          <p:spPr>
            <a:xfrm>
              <a:off x="4678200" y="2822400"/>
              <a:ext cx="4159800" cy="576360"/>
            </a:xfrm>
            <a:prstGeom prst="roundRect">
              <a:avLst>
                <a:gd name="adj" fmla="val 16667"/>
              </a:avLst>
            </a:pr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zawierający zwięzłe informacje</a:t>
              </a:r>
              <a:r>
                <a:rPr b="0" lang="pl-PL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123923"/>
            <p:cNvSpPr/>
            <p:nvPr/>
          </p:nvSpPr>
          <p:spPr>
            <a:xfrm>
              <a:off x="4678200" y="3687120"/>
              <a:ext cx="4159800" cy="576360"/>
            </a:xfrm>
            <a:prstGeom prst="roundRect">
              <a:avLst>
                <a:gd name="adj" fmla="val 16667"/>
              </a:avLst>
            </a:pr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relewantny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_s123927"/>
            <p:cNvSpPr/>
            <p:nvPr/>
          </p:nvSpPr>
          <p:spPr>
            <a:xfrm>
              <a:off x="4678200" y="4551840"/>
              <a:ext cx="4159800" cy="576360"/>
            </a:xfrm>
            <a:prstGeom prst="roundRect">
              <a:avLst>
                <a:gd name="adj" fmla="val 16667"/>
              </a:avLst>
            </a:pr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zawierający tylko sprawdzone i prawdziwe informacj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123929"/>
            <p:cNvSpPr/>
            <p:nvPr/>
          </p:nvSpPr>
          <p:spPr>
            <a:xfrm>
              <a:off x="4678200" y="5416560"/>
              <a:ext cx="4159800" cy="576360"/>
            </a:xfrm>
            <a:prstGeom prst="roundRect">
              <a:avLst>
                <a:gd name="adj" fmla="val 16667"/>
              </a:avLst>
            </a:pr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zrozumiały dla czytelnika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123931"/>
            <p:cNvSpPr/>
            <p:nvPr/>
          </p:nvSpPr>
          <p:spPr>
            <a:xfrm>
              <a:off x="4678200" y="6281280"/>
              <a:ext cx="4159800" cy="576360"/>
            </a:xfrm>
            <a:prstGeom prst="roundRect">
              <a:avLst>
                <a:gd name="adj" fmla="val 16667"/>
              </a:avLst>
            </a:pr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ednoznaczny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1881360" y="201600"/>
            <a:ext cx="6910560" cy="5831640"/>
            <a:chOff x="1881360" y="201600"/>
            <a:chExt cx="6910560" cy="5831640"/>
          </a:xfrm>
        </p:grpSpPr>
        <p:cxnSp>
          <p:nvCxnSpPr>
            <p:cNvPr id="138" name="_s124941"/>
            <p:cNvCxnSpPr>
              <a:stCxn id="139" idx="1"/>
              <a:endCxn id="140" idx="2"/>
            </p:cNvCxnSpPr>
            <p:nvPr/>
          </p:nvCxnSpPr>
          <p:spPr>
            <a:xfrm rot="10800000">
              <a:off x="3953880" y="1261080"/>
              <a:ext cx="691560" cy="4241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1" name="_s124940"/>
            <p:cNvCxnSpPr>
              <a:stCxn id="142" idx="1"/>
              <a:endCxn id="140" idx="2"/>
            </p:cNvCxnSpPr>
            <p:nvPr/>
          </p:nvCxnSpPr>
          <p:spPr>
            <a:xfrm rot="10800000">
              <a:off x="3953880" y="1261080"/>
              <a:ext cx="691560" cy="2651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3" name="_s124939"/>
            <p:cNvCxnSpPr>
              <a:stCxn id="144" idx="1"/>
              <a:endCxn id="140" idx="2"/>
            </p:cNvCxnSpPr>
            <p:nvPr/>
          </p:nvCxnSpPr>
          <p:spPr>
            <a:xfrm rot="10800000">
              <a:off x="3953880" y="1261080"/>
              <a:ext cx="691560" cy="1060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0" name="_s124935"/>
            <p:cNvSpPr/>
            <p:nvPr/>
          </p:nvSpPr>
          <p:spPr>
            <a:xfrm>
              <a:off x="1881360" y="201600"/>
              <a:ext cx="4146480" cy="1060200"/>
            </a:xfrm>
            <a:prstGeom prst="roundRect">
              <a:avLst>
                <a:gd name="adj" fmla="val 16667"/>
              </a:avLst>
            </a:pr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Opis przedmiotowy 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124936"/>
            <p:cNvSpPr/>
            <p:nvPr/>
          </p:nvSpPr>
          <p:spPr>
            <a:xfrm>
              <a:off x="4645440" y="1792080"/>
              <a:ext cx="4146480" cy="1060200"/>
            </a:xfrm>
            <a:prstGeom prst="roundRect">
              <a:avLst>
                <a:gd name="adj" fmla="val 16667"/>
              </a:avLst>
            </a:pr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zgodność z obowiązującym słownictwe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124937"/>
            <p:cNvSpPr/>
            <p:nvPr/>
          </p:nvSpPr>
          <p:spPr>
            <a:xfrm>
              <a:off x="4645440" y="3382560"/>
              <a:ext cx="4146480" cy="1060200"/>
            </a:xfrm>
            <a:prstGeom prst="roundRect">
              <a:avLst>
                <a:gd name="adj" fmla="val 16667"/>
              </a:avLst>
            </a:pr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Arial"/>
                </a:rPr>
                <a:t>uwzględnienie zasad budowania wypowiedz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124938"/>
            <p:cNvSpPr/>
            <p:nvPr/>
          </p:nvSpPr>
          <p:spPr>
            <a:xfrm>
              <a:off x="4645440" y="4973040"/>
              <a:ext cx="4146480" cy="1060200"/>
            </a:xfrm>
            <a:prstGeom prst="roundRect">
              <a:avLst>
                <a:gd name="adj" fmla="val 16667"/>
              </a:avLst>
            </a:pr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odzwierciedlenie zasad używania język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1881360" y="201600"/>
            <a:ext cx="6910560" cy="6655680"/>
            <a:chOff x="1881360" y="201600"/>
            <a:chExt cx="6910560" cy="6655680"/>
          </a:xfrm>
        </p:grpSpPr>
        <p:cxnSp>
          <p:nvCxnSpPr>
            <p:cNvPr id="146" name="_s125971"/>
            <p:cNvCxnSpPr>
              <a:stCxn id="147" idx="1"/>
              <a:endCxn id="148" idx="2"/>
            </p:cNvCxnSpPr>
            <p:nvPr/>
          </p:nvCxnSpPr>
          <p:spPr>
            <a:xfrm rot="10800000">
              <a:off x="3953880" y="866880"/>
              <a:ext cx="691560" cy="565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9" name="_s125969"/>
            <p:cNvCxnSpPr>
              <a:stCxn id="150" idx="1"/>
              <a:endCxn id="148" idx="2"/>
            </p:cNvCxnSpPr>
            <p:nvPr/>
          </p:nvCxnSpPr>
          <p:spPr>
            <a:xfrm rot="10800000">
              <a:off x="3953880" y="866160"/>
              <a:ext cx="691560" cy="3661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1" name="_s125967"/>
            <p:cNvCxnSpPr>
              <a:stCxn id="152" idx="1"/>
              <a:endCxn id="148" idx="2"/>
            </p:cNvCxnSpPr>
            <p:nvPr/>
          </p:nvCxnSpPr>
          <p:spPr>
            <a:xfrm rot="10800000">
              <a:off x="3953880" y="866160"/>
              <a:ext cx="691560" cy="4659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3" name="_s125965"/>
            <p:cNvCxnSpPr>
              <a:stCxn id="154" idx="1"/>
              <a:endCxn id="148" idx="2"/>
            </p:cNvCxnSpPr>
            <p:nvPr/>
          </p:nvCxnSpPr>
          <p:spPr>
            <a:xfrm rot="10800000">
              <a:off x="3953880" y="866160"/>
              <a:ext cx="691560" cy="2662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5" name="_s125964"/>
            <p:cNvCxnSpPr>
              <a:stCxn id="156" idx="1"/>
              <a:endCxn id="148" idx="2"/>
            </p:cNvCxnSpPr>
            <p:nvPr/>
          </p:nvCxnSpPr>
          <p:spPr>
            <a:xfrm rot="10800000">
              <a:off x="3953880" y="866160"/>
              <a:ext cx="691560" cy="1664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7" name="_s125963"/>
            <p:cNvCxnSpPr>
              <a:stCxn id="158" idx="1"/>
              <a:endCxn id="148" idx="2"/>
            </p:cNvCxnSpPr>
            <p:nvPr/>
          </p:nvCxnSpPr>
          <p:spPr>
            <a:xfrm rot="10800000">
              <a:off x="3953880" y="866880"/>
              <a:ext cx="691560" cy="665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8" name="_s125959"/>
            <p:cNvSpPr/>
            <p:nvPr/>
          </p:nvSpPr>
          <p:spPr>
            <a:xfrm>
              <a:off x="1881360" y="201600"/>
              <a:ext cx="4146480" cy="665280"/>
            </a:xfrm>
            <a:prstGeom prst="roundRect">
              <a:avLst>
                <a:gd name="adj" fmla="val 16667"/>
              </a:avLst>
            </a:pr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ffffff"/>
                  </a:solidFill>
                  <a:latin typeface="Arial"/>
                </a:rPr>
                <a:t>Opis przedmiotowy III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_s125960"/>
            <p:cNvSpPr/>
            <p:nvPr/>
          </p:nvSpPr>
          <p:spPr>
            <a:xfrm>
              <a:off x="4645440" y="1199880"/>
              <a:ext cx="4146480" cy="665280"/>
            </a:xfrm>
            <a:prstGeom prst="roundRect">
              <a:avLst>
                <a:gd name="adj" fmla="val 16667"/>
              </a:avLst>
            </a:pr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ffffff"/>
                  </a:solidFill>
                  <a:latin typeface="Arial"/>
                </a:rPr>
                <a:t>czytelny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125961"/>
            <p:cNvSpPr/>
            <p:nvPr/>
          </p:nvSpPr>
          <p:spPr>
            <a:xfrm>
              <a:off x="4645440" y="2198160"/>
              <a:ext cx="4146480" cy="665280"/>
            </a:xfrm>
            <a:prstGeom prst="roundRect">
              <a:avLst>
                <a:gd name="adj" fmla="val 16667"/>
              </a:avLst>
            </a:pr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ffffff"/>
                  </a:solidFill>
                  <a:latin typeface="Arial"/>
                </a:rPr>
                <a:t>jednolity gramatyczni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25962"/>
            <p:cNvSpPr/>
            <p:nvPr/>
          </p:nvSpPr>
          <p:spPr>
            <a:xfrm>
              <a:off x="4645440" y="3196800"/>
              <a:ext cx="4146480" cy="665280"/>
            </a:xfrm>
            <a:prstGeom prst="roundRect">
              <a:avLst>
                <a:gd name="adj" fmla="val 16667"/>
              </a:avLst>
            </a:pr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ffffff"/>
                  </a:solidFill>
                  <a:latin typeface="Arial"/>
                </a:rPr>
                <a:t>zwięzły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125966"/>
            <p:cNvSpPr/>
            <p:nvPr/>
          </p:nvSpPr>
          <p:spPr>
            <a:xfrm>
              <a:off x="4645440" y="5193720"/>
              <a:ext cx="4146480" cy="665280"/>
            </a:xfrm>
            <a:prstGeom prst="roundRect">
              <a:avLst>
                <a:gd name="adj" fmla="val 16667"/>
              </a:avLst>
            </a:pr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ffffff"/>
                  </a:solidFill>
                  <a:latin typeface="Arial"/>
                </a:rPr>
                <a:t>łatwa lokalizacja relacji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ffffff"/>
                  </a:solidFill>
                  <a:latin typeface="Arial"/>
                </a:rPr>
                <a:t>paradygmatycznych i mereologicznych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125968"/>
            <p:cNvSpPr/>
            <p:nvPr/>
          </p:nvSpPr>
          <p:spPr>
            <a:xfrm>
              <a:off x="4645440" y="4195080"/>
              <a:ext cx="4146480" cy="665280"/>
            </a:xfrm>
            <a:prstGeom prst="roundRect">
              <a:avLst>
                <a:gd name="adj" fmla="val 16667"/>
              </a:avLst>
            </a:pr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ffffff"/>
                  </a:solidFill>
                  <a:latin typeface="Arial"/>
                </a:rPr>
                <a:t>uporządkowany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125970"/>
            <p:cNvSpPr/>
            <p:nvPr/>
          </p:nvSpPr>
          <p:spPr>
            <a:xfrm>
              <a:off x="4645440" y="6192000"/>
              <a:ext cx="4146480" cy="665280"/>
            </a:xfrm>
            <a:prstGeom prst="roundRect">
              <a:avLst>
                <a:gd name="adj" fmla="val 16667"/>
              </a:avLst>
            </a:prstGeom>
            <a:solidFill>
              <a:srgbClr val="586f9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ffffff"/>
                  </a:solidFill>
                  <a:latin typeface="Arial"/>
                </a:rPr>
                <a:t>obiektywny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99ccff"/>
                </a:solidFill>
                <a:latin typeface="Tahoma"/>
              </a:rPr>
              <a:t>Problemy stosowania JHP BN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Jasne i klarowne zasady sporządzania charakterystyki wyszukiwawczej ułatwiają pracę bibliotekarzom, przyczyniając się do wzrostu jakości produkowanych informacj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rzy obszary problemow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braki w budowie odsyłacz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iejednolite reguły budowy tematów i określników z nimi związanych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ieekonomiczne mnożenie tematów i określników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99ccff"/>
                </a:solidFill>
                <a:latin typeface="Tahoma"/>
              </a:rPr>
              <a:t>Braki w budowie odsyłaczy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Żywność transgeniczna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2"/>
              </a:rPr>
              <a:t>Organizmy transgeniczne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S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3"/>
              </a:rPr>
              <a:t>Żywność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Gender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 (brak jakiegokolwiek powiązania z tematami Płeć-socjologia, Kobieta-socjologia, Mężczyzna-socjologia i in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Palenie tytoniu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U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Cygara - użytkowanie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U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Fajki - użytkowanie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U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Papierosy - użytkowanie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U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Tytoń - użytkowanie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4"/>
              </a:rPr>
              <a:t>Dym tytoniowy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5"/>
              </a:rPr>
              <a:t>Fajki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S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6"/>
              </a:rPr>
              <a:t>Nałóg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W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7"/>
              </a:rPr>
              <a:t>Palenie tytoniu bierne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8"/>
              </a:rPr>
              <a:t>Tytoń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Żywność wygodna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U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Dania gotowe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U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Półfabrykaty spożywcze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U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Półprodukty spożywcze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9"/>
              </a:rPr>
              <a:t>Koncentraty spożywcze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Konserwy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Mrożonki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Przemysł rolno-spożywczy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S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Żywność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99ccff"/>
                </a:solidFill>
                <a:latin typeface="Tahoma"/>
              </a:rPr>
              <a:t>Braki w budowie odsyłaczy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Etyka biznesu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U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Etyka zarządzania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U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Menedżerowie - etyka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U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Zarządzanie - etyka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S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2"/>
              </a:rPr>
              <a:t>Etyka zawodowa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3"/>
              </a:rPr>
              <a:t>Gospodarka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- etyka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4"/>
              </a:rPr>
              <a:t>Nieuczciwa konkurencja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K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5"/>
              </a:rPr>
              <a:t>Przedsiębiorstwo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W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6"/>
              </a:rPr>
              <a:t>Społeczna odpowiedzialność biznesu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emat/okr.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Etyka ekologiczna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U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Etyka środowiska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S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7"/>
              </a:rPr>
              <a:t>Etyka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S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8"/>
              </a:rPr>
              <a:t>Filozofia ekologiczna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Perska, Zatoka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Uwagi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Marka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 (brak odsyłaczy całkowitych do Znaki towarowe i Firma (nazwa)-marketing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Architektura chińska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W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9"/>
              </a:rPr>
              <a:t>Architektura obronna chińska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W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10"/>
              </a:rPr>
              <a:t>Architektura sakralna chińska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S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11"/>
              </a:rPr>
              <a:t>Sztuka chińska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TW </a:t>
            </a:r>
            <a:r>
              <a:rPr b="0" lang="pl-PL" sz="2000" spc="-1" strike="noStrike" u="sng">
                <a:solidFill>
                  <a:srgbClr val="ccecff"/>
                </a:solidFill>
                <a:uFillTx/>
                <a:latin typeface="Tahoma"/>
                <a:hlinkClick r:id="rId12"/>
              </a:rPr>
              <a:t>Sztuka ogrodowa chińska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6:11:48Z</dcterms:created>
  <dc:creator>Kacper Trzaska</dc:creator>
  <dc:description/>
  <cp:keywords/>
  <dc:language>en-US</dc:language>
  <cp:lastModifiedBy>a.borowska</cp:lastModifiedBy>
  <dcterms:modified xsi:type="dcterms:W3CDTF">2009-06-01T12:51:28Z</dcterms:modified>
  <cp:revision>8</cp:revision>
  <dc:subject/>
  <dc:title>Nazwa firm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5101045</vt:lpwstr>
  </property>
</Properties>
</file>